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type.wav" ContentType="audio/x-wav"/>
  <Override PartName="/ppt/media/image7.wmf" ContentType="image/x-wmf"/>
  <Override PartName="/ppt/media/chimes.wav" ContentType="audio/x-wav"/>
  <Override PartName="/ppt/media/ricochet.wav" ContentType="audio/x-wav"/>
  <Override PartName="/ppt/media/explode.wav" ContentType="audio/x-wav"/>
  <Override PartName="/ppt/media/image6.png" ContentType="image/png"/>
  <Override PartName="/ppt/media/image14.wmf" ContentType="image/x-wmf"/>
  <Override PartName="/ppt/media/camera.wav" ContentType="audio/x-wav"/>
  <Override PartName="/ppt/media/image5.wmf" ContentType="image/x-wmf"/>
  <Override PartName="/ppt/media/image4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drumroll.wav" ContentType="audio/x-wav"/>
  <Override PartName="/ppt/media/image13.wmf" ContentType="image/x-wmf"/>
  <Override PartName="/ppt/media/whoosh.wav" ContentType="audio/x-wav"/>
  <Override PartName="/ppt/media/image12.wmf" ContentType="image/x-wmf"/>
  <Override PartName="/ppt/media/image11.wmf" ContentType="image/x-wmf"/>
  <Override PartName="/ppt/media/image10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  <p:custShowLst>
    <p:custShow name="Custom Show 1" id="0">
      <p:sldLst>
        <p:sld r:id="rId6"/>
      </p:sldLst>
    </p:custShow>
    <p:custShow name="Custom Show 2" id="1">
      <p:sldLst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1A6D-9F0E-4ED0-9061-7D64ED00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92A3-EB12-4341-B805-F1640ED7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5B41-B16C-4EA7-858D-4AFD3B2E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CF46-2488-4AF0-941C-AC19B5EE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77C1-7914-4552-B393-FBD0175C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78D7-7F51-4169-B313-15E52933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3B60-35B1-4ECB-8EC6-C50A2687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551D-5A78-4841-89D4-EFC7ED79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9C08-338A-46F4-AE3E-BBAF4006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5907-B0E7-4A08-ADCF-C7B3C61B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FD03-EDDB-45C0-9325-282DA6DB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775D-9CC4-4FF4-8133-B25CDF66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9797-54CF-43AE-8779-D235B94F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6896-BD2E-494D-9A9D-4390A589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0AA8-F652-427A-877A-B650F2AC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483A-5B32-4BDD-8533-14FAB1EB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3C6D-AC28-4AFC-842A-E7A1AB2C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7688-F1FA-4817-A51B-B27BC38A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0896-24B8-43A3-9F21-194A1478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34CD-4629-48BC-8DC8-105D6910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4E2B-C8F3-4638-88B1-20D21FB6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65F9-A1C3-41B5-AF56-2148E82C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786C-68E4-4D23-8022-6D1FFFCA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99DB-D57D-4EDD-A981-34DFC7E9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0830-BB64-4A6A-84A8-D8DEA8EA9B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B4B8-4C2D-4F81-9E54-E948132903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file:///tmp/home/.config/libreoffice/4/user/gallery/carbrake.wav" TargetMode="External"/><Relationship Id="rId3" Type="http://schemas.microsoft.com/office/2007/relationships/media" Target="file:///tmp/home/.config/libreoffice/4/user/gallery/carbrake.wav" TargetMode="External"/><Relationship Id="rId4" Type="http://schemas.openxmlformats.org/officeDocument/2006/relationships/image" Target="../media/image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audio" Target="../media/chimes.wav"/><Relationship Id="rId7" Type="http://schemas.openxmlformats.org/officeDocument/2006/relationships/audio" Target="../media/whoosh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9.wmf"/><Relationship Id="rId3" Type="http://schemas.openxmlformats.org/officeDocument/2006/relationships/audio" Target="../media/chimes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34840" y="228600"/>
            <a:ext cx="629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219320" y="1752480"/>
            <a:ext cx="3276720" cy="1827360"/>
            <a:chOff x="1219320" y="1752480"/>
            <a:chExt cx="3276720" cy="182736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219320" y="1752480"/>
              <a:ext cx="1306440" cy="18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431800" y="1828800"/>
              <a:ext cx="206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La primav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114800" y="4876920"/>
            <a:ext cx="2162160" cy="1643040"/>
            <a:chOff x="4114800" y="4876920"/>
            <a:chExt cx="2162160" cy="1643040"/>
          </a:xfrm>
        </p:grpSpPr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4114800" y="5334120"/>
              <a:ext cx="216216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326120" y="4876920"/>
              <a:ext cx="168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l invier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57200" y="4038480"/>
            <a:ext cx="1676520" cy="1983960"/>
            <a:chOff x="457200" y="4038480"/>
            <a:chExt cx="1676520" cy="1983960"/>
          </a:xfrm>
        </p:grpSpPr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457200" y="4038480"/>
              <a:ext cx="167652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73120" y="5562720"/>
              <a:ext cx="13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l otoñ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392080" y="2057400"/>
            <a:ext cx="3355200" cy="1752480"/>
            <a:chOff x="5392080" y="2057400"/>
            <a:chExt cx="3355200" cy="1752480"/>
          </a:xfrm>
        </p:grpSpPr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7023240" y="2057400"/>
              <a:ext cx="1724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5392080" y="3200400"/>
              <a:ext cx="150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l vera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d"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34840" y="228600"/>
            <a:ext cx="629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954520" y="1703520"/>
            <a:ext cx="2301840" cy="703440"/>
            <a:chOff x="2954520" y="1703520"/>
            <a:chExt cx="2301840" cy="703440"/>
          </a:xfrm>
        </p:grpSpPr>
        <p:sp>
          <p:nvSpPr>
            <p:cNvPr id="98" name=""/>
            <p:cNvSpPr/>
            <p:nvPr/>
          </p:nvSpPr>
          <p:spPr>
            <a:xfrm>
              <a:off x="2954520" y="1703520"/>
              <a:ext cx="143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Hac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86200" y="17035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010040" y="2895480"/>
            <a:ext cx="3912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buen / mal 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frí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fre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V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84120" y="289548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(mu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98400" y="482904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(much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  <p:sndAc>
      <p:stSnd>
        <p:snd r:embed="rId1" name="chimes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59040" y="228600"/>
            <a:ext cx="700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Verdana"/>
              </a:rPr>
              <a:t>Hace buen tiempo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95480" y="2438280"/>
            <a:ext cx="3413160" cy="3468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94360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5" name="chimes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5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34560" y="228600"/>
            <a:ext cx="656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Verdana"/>
              </a:rPr>
              <a:t>Hace mal tiempo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251160" cy="32684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2" name="explode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98960" y="228600"/>
            <a:ext cx="264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Verdana"/>
              </a:rPr>
              <a:t>Hace 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1371600" cy="1358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620120" y="1828800"/>
            <a:ext cx="742680" cy="2133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410080" y="4648320"/>
            <a:ext cx="1446480" cy="1447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809880" y="1828800"/>
            <a:ext cx="1752840" cy="955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905120" y="4724280"/>
            <a:ext cx="1752480" cy="1384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68800" y="3384720"/>
            <a:ext cx="848160" cy="459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71600" y="2851200"/>
            <a:ext cx="1160640" cy="459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7400" y="3917880"/>
            <a:ext cx="945720" cy="459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fr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43200" y="6172200"/>
            <a:ext cx="1337400" cy="459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v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00240" y="6172200"/>
            <a:ext cx="1317600" cy="459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fre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  <p:sndAc>
      <p:stSnd>
        <p:snd r:embed="rId6" name="chimes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4840" y="228600"/>
            <a:ext cx="629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913760" y="1752480"/>
            <a:ext cx="5014080" cy="1219320"/>
            <a:chOff x="1913760" y="1752480"/>
            <a:chExt cx="5014080" cy="1219320"/>
          </a:xfrm>
        </p:grpSpPr>
        <p:sp>
          <p:nvSpPr>
            <p:cNvPr id="121" name=""/>
            <p:cNvSpPr/>
            <p:nvPr/>
          </p:nvSpPr>
          <p:spPr>
            <a:xfrm>
              <a:off x="1913760" y="1981080"/>
              <a:ext cx="272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a50021"/>
                  </a:solidFill>
                  <a:latin typeface="Verdana"/>
                </a:rPr>
                <a:t>Está soleado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5715000" y="1752480"/>
              <a:ext cx="121284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1891800" y="5257800"/>
            <a:ext cx="5271120" cy="1243080"/>
            <a:chOff x="1891800" y="5257800"/>
            <a:chExt cx="5271120" cy="1243080"/>
          </a:xfrm>
        </p:grpSpPr>
        <p:sp>
          <p:nvSpPr>
            <p:cNvPr id="124" name=""/>
            <p:cNvSpPr/>
            <p:nvPr/>
          </p:nvSpPr>
          <p:spPr>
            <a:xfrm>
              <a:off x="1891800" y="5715000"/>
              <a:ext cx="258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a50021"/>
                  </a:solidFill>
                  <a:latin typeface="Verdana"/>
                </a:rPr>
                <a:t>Hay neblina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5638680" y="5257800"/>
              <a:ext cx="1524240" cy="124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1911240" y="3733920"/>
            <a:ext cx="5403960" cy="949320"/>
            <a:chOff x="1911240" y="3733920"/>
            <a:chExt cx="5403960" cy="949320"/>
          </a:xfrm>
        </p:grpSpPr>
        <p:sp>
          <p:nvSpPr>
            <p:cNvPr id="127" name=""/>
            <p:cNvSpPr/>
            <p:nvPr/>
          </p:nvSpPr>
          <p:spPr>
            <a:xfrm>
              <a:off x="1911240" y="3886200"/>
              <a:ext cx="279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a50021"/>
                  </a:solidFill>
                  <a:latin typeface="Verdana"/>
                </a:rPr>
                <a:t>Está nublado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5410080" y="3733920"/>
              <a:ext cx="190512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d"/>
    <p:sndAc>
      <p:stSnd>
        <p:snd r:embed="rId4" name="chimes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34840" y="228600"/>
            <a:ext cx="629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295280" y="1600200"/>
            <a:ext cx="2023920" cy="2971800"/>
            <a:chOff x="1295280" y="1600200"/>
            <a:chExt cx="2023920" cy="2971800"/>
          </a:xfrm>
        </p:grpSpPr>
        <p:sp>
          <p:nvSpPr>
            <p:cNvPr id="131" name=""/>
            <p:cNvSpPr/>
            <p:nvPr/>
          </p:nvSpPr>
          <p:spPr>
            <a:xfrm>
              <a:off x="1535400" y="1600200"/>
              <a:ext cx="153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a50021"/>
                  </a:solidFill>
                  <a:latin typeface="Verdana"/>
                </a:rPr>
                <a:t>Lluev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1295280" y="2514600"/>
              <a:ext cx="2023920" cy="205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"/>
          <p:cNvGrpSpPr/>
          <p:nvPr/>
        </p:nvGrpSpPr>
        <p:grpSpPr>
          <a:xfrm>
            <a:off x="5715000" y="1600200"/>
            <a:ext cx="2106720" cy="3124080"/>
            <a:chOff x="5715000" y="1600200"/>
            <a:chExt cx="2106720" cy="3124080"/>
          </a:xfrm>
        </p:grpSpPr>
        <p:sp>
          <p:nvSpPr>
            <p:cNvPr id="134" name=""/>
            <p:cNvSpPr/>
            <p:nvPr/>
          </p:nvSpPr>
          <p:spPr>
            <a:xfrm>
              <a:off x="6052680" y="1600200"/>
              <a:ext cx="140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a50021"/>
                  </a:solidFill>
                  <a:latin typeface="Verdana"/>
                </a:rPr>
                <a:t>Nieva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5715000" y="2590920"/>
              <a:ext cx="2106720" cy="213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"/>
          <p:cNvSpPr/>
          <p:nvPr/>
        </p:nvSpPr>
        <p:spPr>
          <a:xfrm>
            <a:off x="1094760" y="5518080"/>
            <a:ext cx="193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(Va a </a:t>
            </a:r>
            <a:r>
              <a:rPr b="1" i="1" lang="en-US" sz="2400" spc="-1" strike="noStrike" u="sng">
                <a:solidFill>
                  <a:srgbClr val="a50021"/>
                </a:solidFill>
                <a:uFillTx/>
                <a:latin typeface="Verdana"/>
              </a:rPr>
              <a:t>llover</a:t>
            </a: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(La lluv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82680" y="5486400"/>
            <a:ext cx="19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(Va a </a:t>
            </a:r>
            <a:r>
              <a:rPr b="1" i="1" lang="en-US" sz="2400" spc="-1" strike="noStrike" u="sng">
                <a:solidFill>
                  <a:srgbClr val="a50021"/>
                </a:solidFill>
                <a:uFillTx/>
                <a:latin typeface="Verdana"/>
              </a:rPr>
              <a:t>nevar</a:t>
            </a: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(La nie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  <p:sndAc>
      <p:stSnd>
        <p:snd r:embed="rId3" name="chimes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84080" y="304920"/>
            <a:ext cx="668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Verdana"/>
              </a:rPr>
              <a:t>¿Qué temperatura h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68080" y="1828800"/>
            <a:ext cx="7975080" cy="703440"/>
            <a:chOff x="568080" y="1828800"/>
            <a:chExt cx="7975080" cy="703440"/>
          </a:xfrm>
        </p:grpSpPr>
        <p:sp>
          <p:nvSpPr>
            <p:cNvPr id="140" name=""/>
            <p:cNvSpPr/>
            <p:nvPr/>
          </p:nvSpPr>
          <p:spPr>
            <a:xfrm>
              <a:off x="568080" y="1828800"/>
              <a:ext cx="16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“</a:t>
              </a: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Hac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92000" y="18288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75720" y="1828800"/>
              <a:ext cx="195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a50021"/>
                  </a:solidFill>
                  <a:latin typeface="Verdana"/>
                </a:rPr>
                <a:t>númer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90360" y="1828800"/>
              <a:ext cx="2152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grados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87840" y="18288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203440" y="2774880"/>
            <a:ext cx="3489840" cy="2697840"/>
            <a:chOff x="5203440" y="2774880"/>
            <a:chExt cx="3489840" cy="269784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7620120" y="2774880"/>
              <a:ext cx="107316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203440" y="3429000"/>
              <a:ext cx="24912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Hace 95 gr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arenhei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(Hace 35 gra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Centígrado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57200" y="3886200"/>
            <a:ext cx="3503520" cy="2666880"/>
            <a:chOff x="457200" y="3886200"/>
            <a:chExt cx="3503520" cy="2666880"/>
          </a:xfrm>
        </p:grpSpPr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457200" y="3886200"/>
              <a:ext cx="92700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469520" y="4267080"/>
              <a:ext cx="24912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Hace 32 gr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arenhei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(Hace 0 gra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Centígrado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d"/>
    <p:sndAc>
      <p:stSnd>
        <p:snd r:embed="rId3" name="chimes.wav"/>
      </p:stSnd>
    </p:sndAc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95680" y="228600"/>
            <a:ext cx="655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¿Qué tiempo hace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15640" y="2013120"/>
            <a:ext cx="7087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 el otoñ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 el veran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 el mes de diciemb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 Chile en el mes de octub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  <p:sndAc>
      <p:stSnd>
        <p:snd r:embed="rId1" name="chimes.wav"/>
      </p:stSnd>
    </p:sndAc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75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hrabovecky</cp:lastModifiedBy>
  <dcterms:modified xsi:type="dcterms:W3CDTF">2008-04-16T16:40:38Z</dcterms:modified>
  <cp:revision>11</cp:revision>
  <dc:subject/>
  <dc:title>PowerPoint Presentation</dc:title>
</cp:coreProperties>
</file>